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8C2-DCCE-43A3-A29C-C4A932DC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04E-7F55-4754-8244-192F07B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146-4E71-4D36-BF66-F6A85BE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CA3-77EA-4A5C-B98E-202980DC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9D6B-F877-4A60-BFFA-F10674E2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B19-097A-466D-BB7E-8F1CDE1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D884-3767-441E-B7F0-966FD931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B634-A396-4042-B32F-60B9D68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731-C7A3-4044-9588-D312E418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2908-0B90-4016-B181-BBD1142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ADFF-EF82-4DDB-A7D1-5A51718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A53-B537-40CE-BF14-4CDC6AC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B49-BFC1-4231-8728-77D918E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F2C-AA58-49FE-AE5B-EF676F28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647C-6ED2-40FB-84B1-EBBD7E3E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EAA9-F2AA-4B31-A8C6-71F87B01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2608-8B4A-4D7A-B0FD-71192EC2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B8E7-DFE0-4BF3-8166-74EC0D2A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EAF7-503B-4CA6-B555-9913907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9F08-FB69-416B-9265-70859882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B5DE-AAFA-45D8-9BD5-C6CB7E7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E55E-A7D2-4A6E-93A7-8634DCAC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167-5755-40F4-B962-A80B439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0AE2-E685-45F9-8424-760AF716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C280-2E73-4FA9-AA81-814DF07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F257-146F-4C0F-A84D-1F86411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CDDA-858D-4559-ABD3-C61B015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2E47-1C17-4671-A031-7862C28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8AC7-B211-4EA0-A2D2-5FBF515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A6B8-D1C4-4FE7-BDF6-6D675E08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8D70-BBA0-4C5C-A12D-8CF61055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E62D-99B9-4BAA-9FA4-BF576B3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2053-A64E-4E5E-ADE3-51429644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34D-5A10-4374-8DAC-A2476432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770B-2FA0-4BD4-8B1A-E2DD4294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B7A1-6398-4065-97DD-73539B9D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A0C4-B26C-46A3-9CA1-D83E85D0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1267-5BE8-4BE8-A850-7952A9F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DD87-FDB5-4549-A2B8-979D7A4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6F69-A272-401F-9C80-EB6EE34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09BE3-A941-43B7-8554-07ED223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C807-8347-490B-BD3A-C4676F1C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2861-6094-4FFA-95A2-002DB2AA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9E16-FD77-4AC9-9C58-21D7BF19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25F-DC60-4ACD-8535-140A1E0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68A6-A5E2-4FF0-80B2-D73CE1A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01D1-65DA-4839-84AE-3E5E7087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CAAA-E872-4B47-8AD3-DB1DEC42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7C68-680A-4573-AC53-EED1E3F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5CFFA-4CBE-4519-9339-0E5D61A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3ED6-DDC6-43D1-87FE-E703A94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7BC3-D6EA-4088-9A8D-250E020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7006-3F92-4A08-AE99-05DA752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3563-A1F3-4EA3-A8F1-64DC151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3131-BF72-4978-A486-B37A95D2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C35-6181-4060-BF43-D960A7C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7049-C1F7-470A-9C05-CDE8863F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D8B-0E6C-49F3-8E3A-199576B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296-F12A-46DA-9483-4DE7761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129-F49A-4196-95DB-4994C572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555-117A-40C0-BACC-78DD991989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38B5-F007-4EA8-8DE4-96C8B0CF86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B3C-6127-4EAB-B45F-8F89D99975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4D9-F922-4C90-BD81-E0FDC50190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CB9-110D-4ED6-9937-D8EA4E7AFC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  <a:ea typeface="Arial"/>
              </a:rPr>
              <a:t>Ch. 56 Warm-U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240" y="1447560"/>
            <a:ext cx="480060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es acid precipitation affect the environmen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lain how the greenhouse effect can be both positive and nega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22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hould humans be concerned about biological magnification? Explai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105520" y="1600200"/>
            <a:ext cx="373356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6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Eutroph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lobal 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Acid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21760"/>
            <a:ext cx="876312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Acid Precipita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219320"/>
            <a:ext cx="8534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in, snow, or fog with a pH less than 5.6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burning of wood &amp; fossil fue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lease sulfur oxides and nitrogen oxid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act with water in the atmosphere to produce sulfuric and nitric acid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44520" indent="-34452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rcRect l="0" t="0" r="0" b="3770"/>
          <a:stretch/>
        </p:blipFill>
        <p:spPr>
          <a:xfrm>
            <a:off x="1905120" y="3657600"/>
            <a:ext cx="51814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acid precipitation on a forest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Picture 4" descr="_x0012_03-10-AcidRain.jpg                                             0000044D&#10;KM ZIP-014                     B80260A3:"/>
          <p:cNvPicPr/>
          <p:nvPr/>
        </p:nvPicPr>
        <p:blipFill>
          <a:blip r:embed="rId1"/>
          <a:stretch/>
        </p:blipFill>
        <p:spPr>
          <a:xfrm>
            <a:off x="76320" y="609480"/>
            <a:ext cx="8991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rain damage to statuary, 1908 &amp; 1968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1" name="Picture 4" descr="_x0014_03-10x2-Statuary.jpg                                           00001616_x0010_Camp Pocketdrive               B81D7FDE:"/>
          <p:cNvPicPr/>
          <p:nvPr/>
        </p:nvPicPr>
        <p:blipFill>
          <a:blip r:embed="rId1"/>
          <a:stretch/>
        </p:blipFill>
        <p:spPr>
          <a:xfrm>
            <a:off x="380880" y="865080"/>
            <a:ext cx="8420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2" descr="56_25BioMagnificationPCB-L.jpg"/>
          <p:cNvPicPr/>
          <p:nvPr/>
        </p:nvPicPr>
        <p:blipFill>
          <a:blip r:embed="rId1"/>
          <a:stretch/>
        </p:blipFill>
        <p:spPr>
          <a:xfrm>
            <a:off x="380880" y="1676520"/>
            <a:ext cx="4527720" cy="458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90760" y="1437840"/>
            <a:ext cx="47242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 become more concentrated in successive trophic levels of a food we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 can’t be broken down &amp; magnify in concentration up the food chai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: mercury in fis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28600" y="380880"/>
            <a:ext cx="8763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Biological Magn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12392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Human activities are depleting the atmospheric ozone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59984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ife on earth is protected from the damaging affects of ultraviolet radiation (UV) by a layer of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ozo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lorine-containing compounds erode the ozone lay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56_31_AntarcticOzoneHole-L.jpg"/>
          <p:cNvPicPr/>
          <p:nvPr/>
        </p:nvPicPr>
        <p:blipFill>
          <a:blip r:embed="rId1"/>
          <a:stretch/>
        </p:blipFill>
        <p:spPr>
          <a:xfrm>
            <a:off x="4038480" y="3657600"/>
            <a:ext cx="4883400" cy="2741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56_29AntarcticOzoneLayer-L.jpg"/>
          <p:cNvPicPr/>
          <p:nvPr/>
        </p:nvPicPr>
        <p:blipFill>
          <a:blip r:embed="rId2"/>
          <a:stretch/>
        </p:blipFill>
        <p:spPr>
          <a:xfrm>
            <a:off x="304920" y="3591000"/>
            <a:ext cx="3504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Greenhouse Effec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1142640"/>
            <a:ext cx="8686800" cy="28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reenhous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bsorption of heat the Earth experiences due to certain greenhouse ga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water vapor absorb infrared radiation and re-reflect back toward Ear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56844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arth needs this heat, but too much could be disastrou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3733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Rising atmospheric CO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600" y="1142640"/>
            <a:ext cx="8686800" cy="14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3124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the Industrial Revolution, the concentration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atmosphere has increased greatly as a resul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fossil fu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5" descr="56_27CarbonDioxTempRise-L.jpg"/>
          <p:cNvPicPr/>
          <p:nvPr/>
        </p:nvPicPr>
        <p:blipFill>
          <a:blip r:embed="rId1"/>
          <a:stretch/>
        </p:blipFill>
        <p:spPr>
          <a:xfrm>
            <a:off x="1828800" y="2590920"/>
            <a:ext cx="51055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Global Warming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1142640"/>
            <a:ext cx="86868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ies predict a doubling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atmosphere will cause a 3ºC increase in the average temperature of Eart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ing temperatures could cause polar ice cap melting, which could flood coastal are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-34596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ach: stabiliz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of fossil fu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uce deforest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6" descr="http://plainswindeis.anl.gov/images/photos/wind_450KW_turbine_IA_V_13764.jpg"/>
          <p:cNvPicPr/>
          <p:nvPr/>
        </p:nvPicPr>
        <p:blipFill>
          <a:blip r:embed="rId1"/>
          <a:stretch/>
        </p:blipFill>
        <p:spPr>
          <a:xfrm>
            <a:off x="6553080" y="3886200"/>
            <a:ext cx="1932120" cy="2705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>
            <a:off x="3200400" y="3921120"/>
            <a:ext cx="2743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hapter 56: Conservation Biology and Global Chan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2" name="Picture 5" descr="56_01SmokyHoneyeater-L.jpg"/>
          <p:cNvPicPr/>
          <p:nvPr/>
        </p:nvPicPr>
        <p:blipFill>
          <a:blip r:embed="rId1"/>
          <a:stretch/>
        </p:blipFill>
        <p:spPr>
          <a:xfrm>
            <a:off x="2209680" y="3160800"/>
            <a:ext cx="47149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you need to know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value of biodiversity, and the major human threats t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human activity is changing the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6000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Biodiversity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nservation biology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goal-oriented science that seeks to counter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diversity cri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the current rapid decrease in Earth’s variety of lif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inction is a natural phenomenon that has been occurring since life evolved on earth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extinction is what underlies the biodiversity crisi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high rate of species extinction is being caused by human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04560" y="533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levels of biodiversity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genetic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pecies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92280" indent="-37332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ecosystem 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3" descr="56_03BiodiversityLevels-L.jpg"/>
          <p:cNvPicPr/>
          <p:nvPr/>
        </p:nvPicPr>
        <p:blipFill>
          <a:blip r:embed="rId1"/>
          <a:stretch/>
        </p:blipFill>
        <p:spPr>
          <a:xfrm>
            <a:off x="4419720" y="1295280"/>
            <a:ext cx="4475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512280"/>
            <a:ext cx="8763120" cy="6303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The four major threats to biodiversity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523880"/>
            <a:ext cx="86868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abitat lo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1920" indent="-26964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alteration of habitat is the single greatest threat to biodivers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Introduced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invasive/nonnative/exotic spec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verexplo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harvest wild plants/anima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85800" indent="-51444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lobal chan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 climate, atmosphere, &amp; ecological syste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duce Earth’s capacity to sustain lif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Perpetua"/>
              </a:rPr>
              <a:t>Movement corridor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promote dispersal if habitats are fragmen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56_18ArtificialCorridor-L.jpg"/>
          <p:cNvPicPr/>
          <p:nvPr/>
        </p:nvPicPr>
        <p:blipFill>
          <a:blip r:embed="rId1"/>
          <a:stretch/>
        </p:blipFill>
        <p:spPr>
          <a:xfrm>
            <a:off x="1676520" y="2514600"/>
            <a:ext cx="6019560" cy="4078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andscape conserv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7a07"/>
                </a:solidFill>
                <a:latin typeface="Franklin Gothic Book"/>
              </a:rPr>
              <a:t>Biodiversity Hot Spo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56_19BiodiversHotSpots-L.jpg"/>
          <p:cNvPicPr/>
          <p:nvPr/>
        </p:nvPicPr>
        <p:blipFill>
          <a:blip r:embed="rId1"/>
          <a:stretch/>
        </p:blipFill>
        <p:spPr>
          <a:xfrm>
            <a:off x="914400" y="1482840"/>
            <a:ext cx="77724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3520" y="1447920"/>
            <a:ext cx="81532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575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ess nitrogen from agriculture enters aquatic ecosyst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95280" indent="-395280">
              <a:lnSpc>
                <a:spcPct val="100000"/>
              </a:lnSpc>
              <a:spcBef>
                <a:spcPts val="374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gae and bacteria bloom/di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duce oxyg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ish and invertebrates d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380880"/>
            <a:ext cx="8763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  <a:ea typeface="Arial"/>
              </a:rPr>
              <a:t>Eutroph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" descr="54_07Eutrophication_UP"/>
          <p:cNvPicPr/>
          <p:nvPr/>
        </p:nvPicPr>
        <p:blipFill>
          <a:blip r:embed="rId1"/>
          <a:stretch/>
        </p:blipFill>
        <p:spPr>
          <a:xfrm>
            <a:off x="228600" y="3657600"/>
            <a:ext cx="3381480" cy="267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56_24_GulfMexicoDeadZone-L.jpg"/>
          <p:cNvPicPr/>
          <p:nvPr/>
        </p:nvPicPr>
        <p:blipFill>
          <a:blip r:embed="rId2"/>
          <a:stretch/>
        </p:blipFill>
        <p:spPr>
          <a:xfrm>
            <a:off x="3886200" y="3657600"/>
            <a:ext cx="5032440" cy="1981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38862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issippi basin dead zone (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Chris Nancy Chou</cp:lastModifiedBy>
  <cp:lastPrinted>2001-01-06T03:20:03Z</cp:lastPrinted>
  <dcterms:modified xsi:type="dcterms:W3CDTF">2012-08-30T04:27:53Z</dcterms:modified>
  <cp:revision>314</cp:revision>
  <dc:subject/>
  <dc:title>Nerve activates contraction</dc:title>
</cp:coreProperties>
</file>